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B3E5-6912-47FA-BB20-D818A1A5CA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0D6E-E935-445C-BB0B-7B0FC00305A4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326D-E49D-48B9-B8E9-DA5EBAE0ECCE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AC05-056F-45FB-833F-26105A4E0563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042D-C0F2-4107-B98B-00A983D2A423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31B9-05F5-410E-9838-E74D92DCC878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0ACE-F62B-4484-8634-D1EB1E79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1D24-30A0-40C3-87C5-1B790192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F179-C7E0-4443-A7A5-C25AEDCB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C9E0-B525-43FC-8C37-DF61EB41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D0EC-6AA9-480F-BA01-4F12A2A0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935B-02F0-4662-A9B6-D01B0DE8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A525-4274-4A15-886B-5532EE72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EF7D-1335-4C0A-91E7-C0CF597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0118-6DB2-4D62-8A41-FCF6D8E1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D6D7-8D75-41B8-84A0-EB4B080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5EE-D592-403A-AAD3-2BBBCFA4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33C1-0B6E-450D-8F61-348174E8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36E3-CE36-45E9-8AB5-7948C801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4437-D58A-4B65-AD2B-01B7D97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D89A-1D75-4EB4-B576-5CEB650E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66E4-2FE5-4A29-A303-95092123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5A1C-227C-4EA5-8144-CCC0D909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7D18-E2D8-4D19-83D5-EAE8ADFE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6C02-B147-4B27-8379-ECE93CFA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76CB-3E2C-4CCB-9664-1EBBADBA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8E9C-EBD3-46CE-9A1C-F69776B9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9A25-BD82-4ECD-AEC4-00692DA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BDDE-3A63-46E2-9E93-B5DE63B2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A92B-E9D8-4A0F-9648-46CBD3C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7128-9AE1-4A57-A04A-3BFE74DB7E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F58C-8457-4E5B-BAA3-664B4482E4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480" y="2285640"/>
            <a:ext cx="8234280" cy="15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ru-RU" sz="4000" spc="-1" strike="noStrike">
                <a:solidFill>
                  <a:srgbClr val="00b050"/>
                </a:solidFill>
                <a:latin typeface="Century Schoolbook"/>
              </a:rPr>
              <a:t>Тема 10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Прибыльность     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	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	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	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	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  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щие факторы прибыльности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00040" y="1643040"/>
            <a:ext cx="84009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ющим в содержании понят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ибыльность производства»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является величина прибыли, в связи, с чем установление факторов прибыльности аграрного производства представляет собой, прежде всего и главным образом установлени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ов прибы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500040" y="32148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висимости от происхождения факторы прибыли могут быть внешними и внутренними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428760" y="4429080"/>
            <a:ext cx="3643200" cy="85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е фактор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исят от производителей аграрной продукции и являются объективными;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3280" y="4432680"/>
            <a:ext cx="3929400" cy="85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Внутренние факторы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зависят от товаропроизводителей и носят субъективный характер.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85680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ей соподчиненности факторы прибыли можно разделить на факторы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го, второго, третьего 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1818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Факторами прибыли первого порядка</a:t>
            </a:r>
            <a:r>
              <a:rPr b="0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, непосредственно влияющими на размер валовой прибыли, являются валовая денежная выручка и валовые издержки производства, что видно из формулы расчета прибы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ПР</a:t>
            </a:r>
            <a:r>
              <a:rPr b="1" lang="ru-RU" sz="2000" spc="-1" strike="noStrike" baseline="-25000">
                <a:solidFill>
                  <a:srgbClr val="1818ff"/>
                </a:solidFill>
                <a:latin typeface="Times New Roman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 = ДВ</a:t>
            </a:r>
            <a:r>
              <a:rPr b="1" lang="ru-RU" sz="2000" spc="-1" strike="noStrike" baseline="-25000">
                <a:solidFill>
                  <a:srgbClr val="1818ff"/>
                </a:solidFill>
                <a:latin typeface="Times New Roman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—  ИП</a:t>
            </a:r>
            <a:r>
              <a:rPr b="1" lang="ru-RU" sz="2000" spc="-1" strike="noStrike" baseline="-25000">
                <a:solidFill>
                  <a:srgbClr val="1818ff"/>
                </a:solidFill>
                <a:latin typeface="Times New Roman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1818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Факторы прибыли второго порядка </a:t>
            </a:r>
            <a:r>
              <a:rPr b="0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представляют собой факторы, оказывающие влияние на размер факторов первого порядка, т. е. на денежную выручку и издержки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1818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В свою очередь, </a:t>
            </a:r>
            <a:r>
              <a:rPr b="1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факторы прибыли третьего порядка </a:t>
            </a:r>
            <a:r>
              <a:rPr b="0" lang="ru-RU" sz="2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оказывают влияние на размер факторов второго порядк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85840" y="1000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ов прибы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есообразно начинать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ов единичной прибыли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чная выручка (Д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единичные издержки производства (ИП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из первого показателя вычесть второй, то в остатке окаж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чная прибыль (ПР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 ИП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ПР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ичные издержки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ходятся в прямой зависимости от величины валовых издержек возделывания сельскохозяйственных культур и содержания скота и продуктивности земли и ск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сумм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овой прибы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в) необходимо величину единичной прибыли умножить на количество реализованной продукции (РП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 = ПРе х Р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"/>
              <p:cNvSpPr txBox="1"/>
              <p:nvPr/>
            </p:nvSpPr>
            <p:spPr>
              <a:xfrm>
                <a:off x="3286080" y="4214880"/>
                <a:ext cx="1643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ИП</m:t>
                        </m:r>
                      </m:e>
                      <m:sub>
                        <m:r>
                          <m:t xml:space="preserve">е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ИП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3"/>
          <p:cNvSpPr/>
          <p:nvPr/>
        </p:nvSpPr>
        <p:spPr>
          <a:xfrm>
            <a:off x="4457880" y="694440"/>
            <a:ext cx="2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85716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продукции убыточ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необходимо выяснить, насколько окупаются вложенные в производство затраты, то вместо показател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ровень прибыль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быть использован другой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ровень окупаемости издерже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»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ющий собой отношение денежной выручки к издержкам производства продукции, выраженное в проце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о продукции прибыльно, если уровень окупаемости издержек превышает 10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эффективности производства товаропроизводителя дает представление также показатель, называемы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ем платежеспособности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едставляет собой отношение величины долга хозяйства ко всему недвижимому имуществу, включая земл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 Р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—  уровень платежеспособности, тенге на те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   —   размер долга, те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 —  стоимость недвижимого имущества, тенг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"/>
              <p:cNvSpPr txBox="1"/>
              <p:nvPr/>
            </p:nvSpPr>
            <p:spPr>
              <a:xfrm>
                <a:off x="2928960" y="2357280"/>
                <a:ext cx="17636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3214800" y="4643280"/>
                <a:ext cx="1428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Н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акторы прибыльности отраслей растение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285920" y="3214800"/>
            <a:ext cx="2643120" cy="15764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785880" y="185724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едущей отраслью растениеводства, как правило, является зерновое производство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5000760" y="3143160"/>
            <a:ext cx="2643120" cy="15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56760" y="999720"/>
            <a:ext cx="83581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м фактором и путем повышения прибыльности производства продукции растениевод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дальнейшее увеличение урожайности зерновых культу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опроизводители располагают большими резервами повышения урожайности зерновых культур. Подтверждением этого являются значительные различия в уровне урожайности между хозяйствами, находящимися в сравнительно одинаковых условиях зер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урожайности зерновых культур сдерживается недостаточной интенсивностью отрасли, несоблюдением всех элементов систем земледелия, медленным освоением севооборотов и интенсивных технологий, недостатками в семеноводстве, отступлением от требований агротехники возделывания зерновых культур. Только применение всего комплекса систем земледелия может обеспечить увеличение урожайности зерновых куль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28760" y="785880"/>
            <a:ext cx="8300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ющим условием увеличения урожайности зерновых культур является расширение применени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нсивной технологии их возделывания,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ющей прибавку урожая, в зависимости от конкретных условий, до 7— 12 ц с гектара. По оценкам ученых, прирост урожайности зерновых культур при интенсивной технологии обеспечивается за счет рационального применения минеральных удобрений на 30— 35 %, средств защиты растений — на 25— 30 %, использования интенсивных сортов — на 15— 18 %. Остальная прибавка урожайности достигается за счет соблюдения сроков и высокого качества проведения всех видов технологических процессов возделывания зерновых куль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000760" y="4500720"/>
            <a:ext cx="2714400" cy="164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1285920" y="435780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7120" y="85680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урожайности оказывает влияние не только на увеличение валовых сборов зерна, но и на экономическую эффективность его производства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ность труда, издержки производства продукции и прибыль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ост урожайности зерновых культур, как правило, связан с дополнительными трудовыми и материальными затратами на их возделывание (в расчете на гектар посева). Однако темпы роста урожайности и дополнительных затрат неодинаковы — урожайность растет быстрее, чем дополнительные затраты труда и средств. Поэтому с ростом урожайности сокращается трудоемкость и снижаются издержки производства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ловажное значение в повышении прибыльности растениеводства имеет проблема улучшения качества продукции. Высокое содержание белка в зерне яровой пшеницы, доведение качества зерна до базисных кондиций по влажности и засоренности, высокий уровень стандартности картофельных клубней и овощей обеспечи­вают повышение цен реализации указанных видов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4. Факторы прибыльности отраслей животно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14200" y="1571400"/>
            <a:ext cx="8715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ейшим фактором и путем повышения прибыльности животноводства является увеличение продуктивности сельскохозяйственных животных и птицы, которая определяется прежде всего уровнем их корм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достаточное и неполноценное кормление может свести на нет наследственные продуктивные качества скота и затраты на его содержание. В системе мер по высокоэффективному ведению животноводства весьма важным является улучшение породных качеств скота, что позволяет увеличить производство продукции, повысить ее качественные показатели, сократить расход кормов и трудовые затраты в расчете на единицу прод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енная работа в молочном и молочно-мясном скотоводстве способствует дальнейшему улучшению у животных молочности, жирномолочности и белковости молока, увеличению живой массы при сохранении у животных конституционной крепости, хорошей вое производительности, способности и приспособляемости к местным природно-климатическим усло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6426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ясном скотоводстве широкое признание получил интенсивный способ производства мяса крупного рогатого скота на откормочных площадках. Ограниченность во многих хозяйствах естественных кормовых угодий вследствие их распашки и вовлечения в производство зерна ставит на повестку дня решение вопроса о круглогодовом в ряде случаев стойловом содержании животных. Сезонные откормочные площадки являются одним из этапов перехода к более интенсивным формам производства мяса крупного рогатого ск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нтенсивном откорме на выращивание животных затрачивается меньше питательных веществ. Лучшая оплата корма привесом у молодняка скота объясняется тем, что на единицу живой массы он потребляет больше корма, чем взрослые, и у него после покрытия затрат на жизненные функции остается больше питательных веществ на рост и ожи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928960" y="4857840"/>
            <a:ext cx="2928960" cy="157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3000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10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ие, функции и показатели прибыльност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щие факторы прибыльност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акторы прибыльности отраслей растение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акторы прибыльности отраслей животно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00040" y="10000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одуктивности свиноводст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достигнуто прежде всего за счет более эффективного использования основных свиноматок. Высокая плодовитость маток и интенсивное использование их могут стать лишь результатом полноценного и разнообразного кормления животных, хорошего ухода за ними, содержания, отбора в основное стадо свиноматок от многоплодных и крупноплодных помесей. Многолетней практикой доказано, что в случае, если свиноматка дает в год менее 12 поросят, она является убыточной для хозяйства и не полностью окупает расходы, затрачиваемые на ее содержание. Наряду с созданием основного маточного стада высокоэффективно широкое использование разовых свиноматок для получения дополнительного количества порос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02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3" descr=""/>
          <p:cNvPicPr/>
          <p:nvPr/>
        </p:nvPicPr>
        <p:blipFill>
          <a:blip r:embed="rId1"/>
          <a:stretch/>
        </p:blipFill>
        <p:spPr>
          <a:xfrm>
            <a:off x="2786040" y="4714920"/>
            <a:ext cx="3286080" cy="17859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7120" y="10000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вцеводство также должно развиваться интенсивным путем. Новая технология овцеводства на промышленной основе предусматривает высокую степень концентрации поголовья на комплексах, внутриотраслевую специализацию, механизацию производственных процессов, создание прочной кормовой базы в зимний и летний периоды, внедрение новых форм организации производства 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ественное значение имеет повышение живой массы овец, продаваемых на мясо. Этот показатель зависит от интенсивного откорма и нагула скота на основе прогрессивной технологии содержания и кормления ов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143080" y="3714840"/>
            <a:ext cx="3733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28760" y="10713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смотрении вопросов прибыльности животноводческой продукции общим для всех ее видов является то, что корма составляют переменные издержки производства, а любые другие затраты — постоянные издержки. Даже трудовые затраты и оплата труда по существу есть не что иное, как постоянные издержки, если исходить из наличия достаточно квалифицированных кад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несмотря на то, что затраты на корма составляют 40— 60 % всех производственных затрат, в конечном счете рентабельность производства определяется продуктивностью животных, так как постоянные издержки на единицу произведенной продукции (единичные издержки) косвенно связаны с объемом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ого, как будет получен какой-либо доход, прибыль за вычетом затрат на корма должна окупать все постоянные затраты. На каждую единицу продукции, превышающую эту «переломную точку», прибыль за вычетом затрат на корма будет в сущности равна чистой при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Понятие, функции и показатели прибыльности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00" y="1356840"/>
            <a:ext cx="8358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льность, будучи обобщающим показателем экономической эффективности аграрного производства, отражает эффективность использования его производственных ресурсов: трудовых, земельных, материа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быль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экономическую категорию, отражающую доходность производства и находящую свое выражение в наличии прибы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л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реализованную часть чистого дохода к рассчитывается вычитанием из денежной выручки от сбыта продукци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В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ржек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ИП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 = ДВ —  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ль характеризует конечные экономические показатели не только в сфере аграрного производства, но и в сфере обращения,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1071720" y="2079360"/>
            <a:ext cx="600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Измерительная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indent="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тимулирующая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indent="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Инвестиционно-инновационная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indent="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еспечивающая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1481040" y="914400"/>
            <a:ext cx="44690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7120" y="857160"/>
            <a:ext cx="85010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ельная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ее используют в качестве обобщающего показателя экономической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ль - единственная движущая сила предпринимательской деятельности товаропроизводителя в условиях рыночной экономики. Получение прибыли единственная цепь любого товаропроизводителя, она заставляет его производить ту продукцию, в таком количестве и такого качества, которые необходимы потребителю. Это стремление побуждает товаропроизводителя быть постоянно «лицом к потребител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о - инновационная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увеличению прибыли побуждает товаропроизводителя осуществлять за счет инвестиций нововведения: осваивать новые виды ресурсов, машин, технологий и за счет этого расширять и удешевлять производство прибыльной прод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ая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ль создает определенные гарантии дальнейшему существованию товаропроизводителя, поскольку только она позволяет ограничить влияние риска, связанного, во-первых, с колебаниями погодных условий, а во-вторых, со сбытом аграрной продукции на рын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2600" y="321480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70"/>
                </a:solidFill>
                <a:latin typeface="Times New Roman"/>
                <a:ea typeface="Times New Roman"/>
              </a:rPr>
              <a:t>Прибыльность аграрного производства рассчитывается по реализованной продукции и, в зависимости от формы ее выражения, характеризуется </a:t>
            </a:r>
            <a:r>
              <a:rPr b="1" lang="ru-RU" sz="2000" spc="-1" strike="noStrike">
                <a:solidFill>
                  <a:srgbClr val="000070"/>
                </a:solidFill>
                <a:latin typeface="Times New Roman"/>
                <a:ea typeface="Times New Roman"/>
              </a:rPr>
              <a:t>абсолютными и относительными показа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низ 4"/>
          <p:cNvSpPr/>
          <p:nvPr/>
        </p:nvSpPr>
        <p:spPr>
          <a:xfrm>
            <a:off x="3643200" y="5000760"/>
            <a:ext cx="1714680" cy="1428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3071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0726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449280" algn="just"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бсолютные показатели прибыльности выражают собой абсолютную величину (сумму) прибы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235692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30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аловую или общую, представляющую собой абсолютную величину прибыли без каких либо вычетов из н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дельную, т. е. прибыль, приходящуюся в расчете на один гектар посева, одну голову скота, одного работ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единичную, являющуюся разновидностью удельной и представляющую собой прибыль, приходящуюся в расчете на единицу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чистую —  остающуюся после всех вычетов из валовой при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714240" y="1785960"/>
            <a:ext cx="70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следующие виды прибыли: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40096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более полной характеристики прибыльности аграрного производства наряду с абсолютной используют так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ые показатели прибыльност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ибыльности (рентабельности) и норму при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2357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301680" algn="just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ровень прибыльности (Р</a:t>
            </a:r>
            <a:r>
              <a:rPr b="0" lang="ru-RU" sz="2000" spc="-1" strike="noStrike" baseline="-25000">
                <a:solidFill>
                  <a:srgbClr val="00007d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) представляет собой отношение прибыли к издержкам производства и может быть рассчитан в процентах по одной из форму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928800" y="3571920"/>
                <a:ext cx="2000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3286080" y="3500280"/>
                <a:ext cx="1857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ИП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572080" y="3429000"/>
                <a:ext cx="1785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П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2"/>
          <p:cNvSpPr/>
          <p:nvPr/>
        </p:nvSpPr>
        <p:spPr>
          <a:xfrm>
            <a:off x="500040" y="4862880"/>
            <a:ext cx="82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ибыль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 эффективность использования текущих (ежегодных) издержек аграрного производства на получение и реализацию продукции и показывает, сколько прибыли получено в расчете на тенге этих затрат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2850840" y="364320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5136840" y="364320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7120" y="71388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в производстве осуществляют не только текущие, но и единовременные затраты, т. е. капитальные вложения на увеличение и обновление производственных основных средств, стоимость которых включается в издержки производства продукции каждого года не полностью, а частью, равной суммам амортизационных отчислений. Поэтому важно знать эффективность не только текущих, но и единовременных затрат, материализованных в средствах производства. С этой целью используют относительные показатели прибыльности, отражающие размер прибыли, приходящейся в расчете на единицу стоимости основных в отдельности, а также совокупных (основных и материальных оборотных вместе взятых) средств — уровень прибыльности основных, материальных оборотных средств и норму прибы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"/>
              <p:cNvSpPr txBox="1"/>
              <p:nvPr/>
            </p:nvSpPr>
            <p:spPr>
              <a:xfrm>
                <a:off x="928800" y="3643200"/>
                <a:ext cx="1571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3"/>
          <p:cNvSpPr/>
          <p:nvPr/>
        </p:nvSpPr>
        <p:spPr>
          <a:xfrm>
            <a:off x="2428920" y="37166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- уровень прибыльности основных средств, %;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785880" y="4429080"/>
                <a:ext cx="164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ОбС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6"/>
          <p:cNvSpPr/>
          <p:nvPr/>
        </p:nvSpPr>
        <p:spPr>
          <a:xfrm>
            <a:off x="2571840" y="44308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- уровень  прибыльности  материальных оборотных средств, %;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785880" y="5286240"/>
                <a:ext cx="2286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МОбС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Прямоугольник 11"/>
          <p:cNvSpPr/>
          <p:nvPr/>
        </p:nvSpPr>
        <p:spPr>
          <a:xfrm>
            <a:off x="3285000" y="54291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- норма прибыли, %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7:51:44Z</dcterms:created>
  <dc:creator>дима</dc:creator>
  <dc:description/>
  <dc:language>en-US</dc:language>
  <cp:lastModifiedBy>1</cp:lastModifiedBy>
  <dcterms:modified xsi:type="dcterms:W3CDTF">2014-01-19T16:58:28Z</dcterms:modified>
  <cp:revision>107</cp:revision>
  <dc:subject/>
  <dc:title>КУРСОВАЯ РАБОТА  на тему:</dc:title>
</cp:coreProperties>
</file>